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21.jpeg" ContentType="image/jpeg"/>
  <Override PartName="/ppt/media/camera.wav" ContentType="audio/x-wav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D66-00E5-41CF-83C7-6E8ABF79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590-E383-4D7F-8715-D616E087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D35-FD5B-4304-9743-AB960316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921-1099-442A-822C-DEBE13A5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A3895-0AA2-4BBB-BB0B-155EB3C3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CD75C-8AD7-4900-A8DD-994C6F61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F48C4-A694-49DD-9CC5-AF8F54E1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6B079-50E0-4774-A53A-9D621199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6787D-7776-433C-8977-83373A55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07AF4-EE40-4254-98B6-1A7F1733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73518-1749-48B4-8A5C-FC1663A0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22A-DE58-4111-ABB7-6EDAC52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86F09-8FEC-42F1-87F9-7FC3E0D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C1660-AF67-42BB-9767-7009CB4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4F418-3D05-4515-B10F-E29C2803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09B14-5261-4A55-B0B7-8EE4F390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54D62-CE9D-4B93-9BF9-6C61340F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554-90AE-4F20-BAD9-E4D0C9D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FB8-62E5-4C31-BA75-C9AE3CC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DEF-740F-411C-A973-C9DF69E7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9CB-C386-4569-99FA-083CBDFF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51D-602F-4D25-85E9-C79970A4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538-C0EF-4F77-8E55-36198E22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781-B39C-4E7F-92ED-48218A59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D308-1C37-4C64-B491-2A1AC7E3D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9ACA-2026-4FBE-9E5D-1980E17F9A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S0zvm2E35MTQUA4cj1Zgx.;_ylu=X3oDMTBpc2VvdmQ2BHBvcwM3BHNlYwNzcgR2dGlkAw--/SIG=1jul3jhjt/EXP=1283417398/**http%3A//nz.images.search.yahoo.com/images/view%3Fback=http%253A%252F%252Fnz.images.search.yahoo.com%252Fsearch%252Fimages%253Fp%253Dgoat%252Bisland%252Bnz%2526ei%253Dutf-8%2526fr%253Dyfp-t-501%26w=640%26h=480%26imgurl=www.goatislanddive.co.nz%252FPicsHotel%252Fgoatisland%252FImages%252Fcorp-group-snork1.jpg%26rurl=http%253A%252F%252Fwww.goatislanddive.co.nz%252FGoat_Island_Dive%252FSnorkel___Kayak_Day_IDL%253D1_IDT%253D2424_ID%253D13858_.html%26size=18k%26name=corp%2Bgroup%2Bsnork...%26p=goat%2Bisland%2Bnz%26oid=d760445d8e0ec576%26fr2=%26no=7%26tt=762%26sigr=1324dgutr%26sigi=12a40v66o%26sigb=12m6d8og7%26type=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S0zvl1E35MaAUAPav1Zgx.;_ylu=X3oDMTBpZTByOGFiBHBvcwMyBHNlYwNzcgR2dGlkAw--/SIG=1i1ihtejk/EXP=1283417333/**http%3A//nz.images.search.yahoo.com/images/view%3Fback=http%253A%252F%252Fnz.images.search.yahoo.com%252Fsearch%252Fimages%253Fp%253Dmoney%252Bclipart%2526ei%253DUTF-8%2526fr%253Dyfp-t-501%26w=462%26h=594%26imgurl=www.clker.com%252Fcliparts%252Fa%252Fc%252Ff%252Fa%252F1195437419219858921johnny_automatic_bag_of_money.svg.hi.png%26rurl=http%253A%252F%252Fwww.clker.com%252Fclipart-11442.html%26size=64k%26name=1195437419219858...%26p=money%2Bclipart%26oid=ca24ab72ae1d96c8%26fr2=%26no=2%26tt=13396%26sigr=117dmv53p%26sigi=12q2dqba9%26sigb=12l2fg5d4%26type=pn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allingfordvt.com/BS01029_.gif&amp;imgrefurl=http://www.wallingfordvt.com/planning_%26_zoning.htm&amp;usg=__sZid-fazXb0arLNAh1YL-u69KIs=&amp;h=364&amp;w=331&amp;sz=9&amp;hl=en&amp;start=1&amp;tbnid=XvHK5DcvHgq8MM:&amp;tbnh=121&amp;tbnw=110&amp;prev=/images%3Fq%3Dagenda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batheastonscouts.org.uk/images/scout_images/camp.gif&amp;imgrefurl=http://batheastonscouts.org.uk/scouts/camps.shtml&amp;usg=__NzFRhQ91knk1u5pkYHGNY3koqGY=&amp;h=196&amp;w=320&amp;sz=26&amp;hl=en&amp;start=12&amp;tbnid=K3rC-Q9hmLx_XM:&amp;tbnh=72&amp;tbnw=118&amp;prev=/images%3Fq%3Dcartoon%2Bcamp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.nz/imgres?imgurl=http://static.bigstockphoto.com/thumbs/3/3/5/large/5330705.jpg&amp;imgrefurl=http://www.bigstockphoto.com/photo/view/5330705&amp;usg=__bdLLS9vfLKVo3X9E3-DZGJylrgc=&amp;h=370&amp;w=210&amp;sz=17&amp;hl=en&amp;start=17&amp;tbnid=-6LsHmD8VnQgNM:&amp;tbnh=122&amp;tbnw=69&amp;prev=/images%3Fq%3Dcartoon%2Bcamp%26gbv%3D2%26hl%3D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.nz/imgres?imgurl=http://www.bradfitzpatrick.com/stock_illustration/images-new/household/cartoon-boots-clipart.gif&amp;imgrefurl=http://www.bradfitzpatrick.com/stock_illustration/cartoon-household-clipart/cartoon-boots-clipart.htm&amp;usg=__yGNSIsX9P1sK0q6bDMp9566qFmI=&amp;h=180&amp;w=240&amp;sz=8&amp;hl=en&amp;start=1&amp;tbnid=_hky8FChkXoMMM:&amp;tbnh=83&amp;tbnw=110&amp;prev=/images%3Fq%3Dcartoon%2Bboots%26gbv%3D2%26hl%3Den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3.babson.edu/Centers/Glavin/GPS/ISS/images/cartoon_students.gif&amp;imgrefurl=http://www3.babson.edu/Centers/Glavin/GPS/ISS/Immigration-and-Visas.cfm&amp;usg=__1yhADgTawzH5fgCusa4VUcUCMXs=&amp;h=480&amp;w=775&amp;sz=19&amp;hl=en&amp;start=17&amp;tbnid=GqxTx949mkkMHM:&amp;tbnh=88&amp;tbnw=142&amp;prev=/images%3Fq%3Dcartoon%2Bstudents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s://www.ocps.net/lc/southwest/eec/AC/Kindergarten/PublishingImages/school%2520bus.gif&amp;imgrefurl=http://www.azcentral.com/members/Blog/PoliticalInsider/t1243839600&amp;usg=__1wTZ4qhLoVGXMlWrEx95el_x6Ww=&amp;h=900&amp;w=859&amp;sz=73&amp;hl=en&amp;start=13&amp;tbnid=sW8Vt1xA6J8RBM:&amp;tbnh=146&amp;tbnw=139&amp;prev=/images%3Fq%3Dbus%26gbv%3D2%26hl%3De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.nz/imgres?imgurl=http://www.kangaroomstorage.com/shop/standard/travel/55/snack-sac-lunch-box.jpg&amp;imgrefurl=http://blackandmarriedwithkids.com/2008/03/19/child-uses-lunch-box-as-toilet/&amp;usg=__9V4SLsKhh2CcXhEDwJWDbFg2m3c=&amp;h=300&amp;w=300&amp;sz=10&amp;hl=en&amp;start=11&amp;tbnid=YIXPptYBHeBlwM:&amp;tbnh=116&amp;tbnw=116&amp;prev=/images%3Fq%3Dlunch%2Bbox%26gbv%3D2%26hl%3Den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Senior Camp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Goat Island Cam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7-10 Decemb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re: Goat Island Camping and backpa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5589720"/>
            <a:ext cx="1963800" cy="14619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d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Fun run – Friday 17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September – students get sponsorship per kilome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Variety Show – Friday 29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October – sell hangi’s and cakes/drin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iathlon – Saturday 20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November – sell drinks/nibbles/c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ssible truck washing in the weeke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760"/>
            <a:ext cx="10666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appreciate your time to come to our meeting and thank you for your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could not do this camp wit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Our wonderful parent suppor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smiling-face"/>
          <p:cNvPicPr/>
          <p:nvPr/>
        </p:nvPicPr>
        <p:blipFill>
          <a:blip r:embed="rId1"/>
          <a:stretch/>
        </p:blipFill>
        <p:spPr>
          <a:xfrm>
            <a:off x="4211640" y="508464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question_mark"/>
          <p:cNvPicPr/>
          <p:nvPr/>
        </p:nvPicPr>
        <p:blipFill>
          <a:blip r:embed="rId1"/>
          <a:stretch/>
        </p:blipFill>
        <p:spPr>
          <a:xfrm>
            <a:off x="3341520" y="2133720"/>
            <a:ext cx="2529000" cy="2663640"/>
          </a:xfrm>
          <a:prstGeom prst="rect">
            <a:avLst/>
          </a:prstGeom>
          <a:ln w="0">
            <a:noFill/>
          </a:ln>
        </p:spPr>
      </p:pic>
    </p:spTree>
  </p:cSld>
  <p:transition advTm="6000"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goatislandcamping.co.nz/map.jpg"/>
          <p:cNvPicPr/>
          <p:nvPr/>
        </p:nvPicPr>
        <p:blipFill>
          <a:blip r:embed="rId1"/>
          <a:stretch/>
        </p:blipFill>
        <p:spPr>
          <a:xfrm>
            <a:off x="684360" y="836640"/>
            <a:ext cx="7464240" cy="5087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340000" y="587700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ff"/>
                </a:solidFill>
                <a:latin typeface="Tahoma"/>
              </a:rPr>
              <a:t>Check it out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t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liminary time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ble 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9" descr="BS01029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68920" y="1773360"/>
            <a:ext cx="15717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4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r goal for camp is for the children to have a memorable educational experience outside the classroom, with a range of challenges, skills and activities, with a particular focus on wat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http://t2.gstatic.com/images?q=tbn:K3rC-Q9hmLx_XM:http://www.batheastonscouts.org.uk/images/scout_images/camp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5445000"/>
            <a:ext cx="1643040" cy="100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t0.gstatic.com/images?q=tbn:-6LsHmD8VnQgNM:http://static.bigstockphoto.com/thumbs/3/3/5/large/53307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5286240"/>
            <a:ext cx="657360" cy="116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t2.gstatic.com/images?q=tbn:_hky8FChkXoMMM:http://www.bradfitzpatrick.com/stock_illustration/images-new/household/cartoon-boots-clipar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00960" y="5715000"/>
            <a:ext cx="1047600" cy="79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roup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classrooms of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 5 to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0 students in to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ture of age and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for an excellent memorable experience with lots of challeng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“Ocean Around U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cartoon_studen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5124600"/>
            <a:ext cx="2225520" cy="1379520"/>
          </a:xfrm>
          <a:prstGeom prst="rect">
            <a:avLst/>
          </a:prstGeom>
          <a:ln w="0">
            <a:noFill/>
          </a:ln>
        </p:spPr>
      </p:pic>
    </p:spTree>
  </p:cSld>
  <p:transition advTm="2700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t Island Camp 20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25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nt and cabin ar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295680" y="3357720"/>
            <a:ext cx="27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mes Room/Kitch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851280" y="4797360"/>
            <a:ext cx="168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at Isl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8" descr="http://www.goatislandcamping.co.nz/pooltable.jpg"/>
          <p:cNvPicPr/>
          <p:nvPr/>
        </p:nvPicPr>
        <p:blipFill>
          <a:blip r:embed="rId1"/>
          <a:stretch/>
        </p:blipFill>
        <p:spPr>
          <a:xfrm>
            <a:off x="6550200" y="1341360"/>
            <a:ext cx="2593800" cy="1943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www.goatislandcamping.co.nz/rpanoramicviews3.JPG"/>
          <p:cNvPicPr/>
          <p:nvPr/>
        </p:nvPicPr>
        <p:blipFill>
          <a:blip r:embed="rId2"/>
          <a:stretch/>
        </p:blipFill>
        <p:spPr>
          <a:xfrm>
            <a:off x="250920" y="1341360"/>
            <a:ext cx="2089080" cy="1563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www.goatislandcamping.co.nz/rpanoramicviews.JPG"/>
          <p:cNvPicPr/>
          <p:nvPr/>
        </p:nvPicPr>
        <p:blipFill>
          <a:blip r:embed="rId3"/>
          <a:stretch/>
        </p:blipFill>
        <p:spPr>
          <a:xfrm>
            <a:off x="3635280" y="1484280"/>
            <a:ext cx="2211480" cy="16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http://www.goatislandcamping.co.nz/rshadyareas3.jpg"/>
          <p:cNvPicPr/>
          <p:nvPr/>
        </p:nvPicPr>
        <p:blipFill>
          <a:blip r:embed="rId4"/>
          <a:stretch/>
        </p:blipFill>
        <p:spPr>
          <a:xfrm>
            <a:off x="395280" y="3789360"/>
            <a:ext cx="194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http://www.goatislandcamping.co.nz/kitchen.jpg"/>
          <p:cNvPicPr/>
          <p:nvPr/>
        </p:nvPicPr>
        <p:blipFill>
          <a:blip r:embed="rId5"/>
          <a:stretch/>
        </p:blipFill>
        <p:spPr>
          <a:xfrm>
            <a:off x="6588000" y="3860640"/>
            <a:ext cx="1898640" cy="142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http://www.goatislandcamping.co.nz/rBBQarea2.JPG"/>
          <p:cNvPicPr/>
          <p:nvPr/>
        </p:nvPicPr>
        <p:blipFill>
          <a:blip r:embed="rId6"/>
          <a:stretch/>
        </p:blipFill>
        <p:spPr>
          <a:xfrm>
            <a:off x="6443640" y="5300640"/>
            <a:ext cx="2521080" cy="1889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http://www.goatislandcamping.co.nz/goatisland_close2.jpg"/>
          <p:cNvPicPr/>
          <p:nvPr/>
        </p:nvPicPr>
        <p:blipFill>
          <a:blip r:embed="rId7"/>
          <a:stretch/>
        </p:blipFill>
        <p:spPr>
          <a:xfrm>
            <a:off x="3203640" y="4005360"/>
            <a:ext cx="2982960" cy="2235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http://www.goatislandcamping.co.nz/photos5.jpg"/>
          <p:cNvPicPr/>
          <p:nvPr/>
        </p:nvPicPr>
        <p:blipFill>
          <a:blip r:embed="rId8"/>
          <a:stretch/>
        </p:blipFill>
        <p:spPr>
          <a:xfrm>
            <a:off x="611280" y="515772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port o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 which seats 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eachers, 80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ent transport – 20 veh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k at Kawakawa &amp; Warkwo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school%2520b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333360"/>
            <a:ext cx="1324080" cy="139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snack-sac-lunch-bo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4581360"/>
            <a:ext cx="1104840" cy="11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reliminary Timet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7176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rrive at camp – set up 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troduction to snorkelling from Nikki at Whitebait Conn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nork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ay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a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lass  Bottom B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ay trip to Waiwera Thermal Pa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ossible co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$100 per stu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nork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ush w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lass bottom b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aiwera Thermal P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21:38:00Z</dcterms:created>
  <dc:creator>Kathryn</dc:creator>
  <dc:description/>
  <dc:language>en-US</dc:language>
  <cp:lastModifiedBy>Richard</cp:lastModifiedBy>
  <dcterms:modified xsi:type="dcterms:W3CDTF">2010-09-03T22:20:19Z</dcterms:modified>
  <cp:revision>24</cp:revision>
  <dc:subject/>
  <dc:title>Senior Camp Marsden Bay Christian Camp</dc:title>
</cp:coreProperties>
</file>